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E00C-7555-472E-AB70-8602399B6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5B90-E0EC-4ED9-B104-5B491F7F5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F70A-6FB8-4E31-9448-053B8CBEA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39CD-3B96-4A43-B708-1DB097D4F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3E4B-935E-4C99-9FA8-013D8E890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662B-3EC3-4AC1-BCDD-FC53B2AE8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E56E-8DE0-4A9D-A129-C84EFBE4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8E86-FBE1-4082-9227-CC3C608BF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CF20-766D-4F13-ADE7-B07ABF718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E924-4C5B-47E4-9B5E-D78929FB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224B-A5AE-4F21-A782-D468E056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FE40-E94B-49A8-8807-C44A43DD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33ACB-9A04-4A41-87E6-7916F2D5EEE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4248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600" spc="-1" strike="noStrike">
                <a:solidFill>
                  <a:srgbClr val="000000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65"/>
          <p:cNvSpPr/>
          <p:nvPr/>
        </p:nvSpPr>
        <p:spPr>
          <a:xfrm>
            <a:off x="468360" y="3429000"/>
            <a:ext cx="4537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My name</a:t>
            </a:r>
            <a:br>
              <a:rPr sz="1800"/>
            </a:b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My position, contact information</a:t>
            </a:r>
            <a:br>
              <a:rPr sz="1800"/>
            </a:b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or project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5580000" y="6021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3"/>
          <p:cNvSpPr/>
          <p:nvPr/>
        </p:nvSpPr>
        <p:spPr>
          <a:xfrm>
            <a:off x="7500960" y="1643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4"/>
          <p:cNvSpPr/>
          <p:nvPr/>
        </p:nvSpPr>
        <p:spPr>
          <a:xfrm>
            <a:off x="75009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5"/>
          <p:cNvSpPr/>
          <p:nvPr/>
        </p:nvSpPr>
        <p:spPr>
          <a:xfrm>
            <a:off x="750096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6"/>
          <p:cNvSpPr/>
          <p:nvPr/>
        </p:nvSpPr>
        <p:spPr>
          <a:xfrm>
            <a:off x="750096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7"/>
          <p:cNvSpPr/>
          <p:nvPr/>
        </p:nvSpPr>
        <p:spPr>
          <a:xfrm>
            <a:off x="750096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8"/>
          <p:cNvSpPr/>
          <p:nvPr/>
        </p:nvSpPr>
        <p:spPr>
          <a:xfrm>
            <a:off x="750096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9"/>
          <p:cNvSpPr/>
          <p:nvPr/>
        </p:nvSpPr>
        <p:spPr>
          <a:xfrm>
            <a:off x="750096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sys</cp:lastModifiedBy>
  <dcterms:modified xsi:type="dcterms:W3CDTF">2016-04-06T04:51:32Z</dcterms:modified>
  <cp:revision>715</cp:revision>
  <dc:subject/>
  <dc:title>Diapositiva 1</dc:title>
</cp:coreProperties>
</file>