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5E4-CF99-4CE2-90F8-BC75529F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041-A9D4-4B02-B66D-6F94540A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A89-C4C8-4D62-A462-4C26B4BC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C02-DA5E-458A-8AB0-1D539B8E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5AC-658C-4361-88BB-74B1D4DB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C4A-452F-424B-8C68-DF5E2D80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26D-717D-4B30-8CA2-BEE418ED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A2D-ABC4-4939-88D9-48B1BEE7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44E-2B26-4D40-BC45-10C5BA61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469-60EE-4F2E-AC0E-5A416D40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17B-2CD4-4797-8B01-7CEA84F6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489-33CC-4FB5-A68E-CFA7C40E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7A96-053F-4E70-B867-B10063B6A4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229000"/>
            <a:ext cx="4859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r>
              <a:rPr b="0" lang="es-UY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8"/>
          <p:cNvSpPr/>
          <p:nvPr/>
        </p:nvSpPr>
        <p:spPr>
          <a:xfrm>
            <a:off x="3203640" y="530064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3300"/>
                </a:solidFill>
                <a:latin typeface="Arial"/>
              </a:rPr>
              <a:t>My name</a:t>
            </a:r>
            <a:br>
              <a:rPr sz="2000"/>
            </a:br>
            <a:r>
              <a:rPr b="0" lang="es-UY" sz="2000" spc="-1" strike="noStrike">
                <a:solidFill>
                  <a:srgbClr val="003300"/>
                </a:solidFill>
                <a:latin typeface="Arial"/>
              </a:rPr>
              <a:t>contact information</a:t>
            </a:r>
            <a:br>
              <a:rPr sz="2000"/>
            </a:br>
            <a:r>
              <a:rPr b="0" lang="es-UY" sz="2000" spc="-1" strike="noStrike">
                <a:solidFill>
                  <a:srgbClr val="003300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760920" y="5695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12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13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14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15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16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7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8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34:19Z</dcterms:modified>
  <cp:revision>722</cp:revision>
  <dc:subject/>
  <dc:title>Diapositiva 1</dc:title>
</cp:coreProperties>
</file>