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C785-3B10-4AA8-80A4-94B0C5CAA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9691-153B-4EA7-8B6D-4EB6501D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ACED-1A55-4358-A971-EA119DEC8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59D4-4E3E-47C0-92A7-DC61F046B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0665-4AF8-4E4D-92F7-95E68B8A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87D4-0F06-4012-8790-44023B4A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3354-E567-4850-A083-5A3C79F2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63CF-8008-452C-B18E-EBB26D0E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221C-4439-49FF-A6CF-9FD45C66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1081-DC88-4DFF-8F55-36AE613F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FF33-C38B-467B-80C8-C98A9FED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1FE5-492B-485D-8B52-16E9C2BB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D3E5-ED85-4EE0-888E-EB2B47108B3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4220640"/>
            <a:ext cx="453708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640" y="4941720"/>
            <a:ext cx="399240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572000" y="585792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3882960" y="1052640"/>
            <a:ext cx="48862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7429680" y="164304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7429680" y="2214720"/>
            <a:ext cx="135720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429680" y="335772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429680" y="392904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429680" y="450072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429680" y="507204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429680" y="278604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3882960" y="1052640"/>
            <a:ext cx="48862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3"/>
          <p:cNvSpPr/>
          <p:nvPr/>
        </p:nvSpPr>
        <p:spPr>
          <a:xfrm>
            <a:off x="7500960" y="150012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4"/>
          <p:cNvSpPr/>
          <p:nvPr/>
        </p:nvSpPr>
        <p:spPr>
          <a:xfrm>
            <a:off x="7500960" y="207180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7500960" y="321480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7500960" y="378612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7500960" y="435780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7500960" y="492912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7500960" y="2643120"/>
            <a:ext cx="135720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besat3-1</cp:lastModifiedBy>
  <dcterms:modified xsi:type="dcterms:W3CDTF">2016-04-11T15:28:05Z</dcterms:modified>
  <cp:revision>578</cp:revision>
  <dc:subject/>
  <dc:title>Diapositiva 1</dc:title>
</cp:coreProperties>
</file>