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C506-6295-403C-B92B-A767EB3A1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B588-763B-40FD-AD56-1403FFE0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4EF4-CDE0-4B9D-8AD3-3582843B0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9F60-19F2-411A-8AD1-B84AD23FF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B163-7FAD-44CA-B850-2C45FFA8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3328-AEEC-40DE-B317-E787308E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FD78-F8B6-4DBC-B0E8-65FA8B18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D6B2-06AC-4251-B1E2-99CFC96F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BEA0-B114-4F40-B72A-406346DD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5F06-8A22-4E77-B406-B681AD92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2ADC-7DEE-41B7-8A4F-12697CD0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43BE-6969-44A0-9C5D-6898C65B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E51B-E7EA-4120-AAB4-E386D48A01A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9280" y="2390400"/>
            <a:ext cx="5656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0"/>
          <p:cNvSpPr/>
          <p:nvPr/>
        </p:nvSpPr>
        <p:spPr>
          <a:xfrm>
            <a:off x="1979640" y="3247920"/>
            <a:ext cx="486396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000000"/>
                </a:solidFill>
                <a:latin typeface="Arial"/>
              </a:rPr>
              <a:t>Subheading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179280" y="5661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0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sys</cp:lastModifiedBy>
  <dcterms:modified xsi:type="dcterms:W3CDTF">2016-04-06T05:01:17Z</dcterms:modified>
  <cp:revision>746</cp:revision>
  <dc:subject/>
  <dc:title>Diapositiva 1</dc:title>
</cp:coreProperties>
</file>