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3A1-5432-4443-8315-9EAD2881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BBB-AF34-46BD-B0D3-EEA2150B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6B3-D44F-4A86-8686-6447BD09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37E-C08F-41C6-AC5B-7719A964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2B6-F4BA-4868-8887-913EEDDC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5B8-DBC2-4D93-A23C-FD049B8D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3A5-2AA2-4702-BF61-6EDD038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06E-A20C-453F-9868-753CA497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B80-B9DA-4631-B229-27A3B1F9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568-8985-4E5F-8389-1469D299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738-ACC6-4465-AB3C-B685A6B4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3BF-C33F-436F-BFBE-8F7C62A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BBFE-C656-4850-9416-4C2ADFF30F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65264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8880" y="5371920"/>
            <a:ext cx="43527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eaeaea"/>
                </a:solidFill>
                <a:latin typeface="Arial"/>
              </a:rPr>
              <a:t>The 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86120" y="58579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3986280" y="992160"/>
            <a:ext cx="478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15200" y="1600200"/>
            <a:ext cx="1328760" cy="542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15200" y="217188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15200" y="331488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15200" y="388620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15200" y="445788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15200" y="502920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15200" y="274320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294080" y="992160"/>
            <a:ext cx="4475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43800" y="1600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43800" y="2171880"/>
            <a:ext cx="1243080" cy="542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43800" y="3314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43800" y="3886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43800" y="4457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43800" y="5029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43800" y="2743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311720" y="977760"/>
            <a:ext cx="4457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620120" y="1447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620120" y="2019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620120" y="3162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620120" y="3733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620120" y="4305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620120" y="4876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620120" y="2590920"/>
            <a:ext cx="1238040" cy="5522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311720" y="1031760"/>
            <a:ext cx="4457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620120" y="1486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620120" y="2057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620120" y="3200400"/>
            <a:ext cx="1238040" cy="514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620120" y="3772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620120" y="4343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620120" y="4915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620120" y="2629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294080" y="1039680"/>
            <a:ext cx="4475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43800" y="1562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43800" y="2133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43800" y="3276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43800" y="3848040"/>
            <a:ext cx="1243080" cy="509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43800" y="4419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43800" y="4991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43800" y="2705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4760" y="286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3762360" y="977760"/>
            <a:ext cx="5006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467480" y="1447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467480" y="2019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467480" y="3162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467480" y="3733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467480" y="4305240"/>
            <a:ext cx="139068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467480" y="4876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467480" y="2590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4760" y="286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002120" y="870120"/>
            <a:ext cx="4664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391520" y="1371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391520" y="1943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391520" y="3086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391520" y="3657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391520" y="4229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391520" y="4800600"/>
            <a:ext cx="1295280" cy="628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391520" y="2514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6-04-08T07:53:38Z</dcterms:modified>
  <cp:revision>529</cp:revision>
  <dc:subject/>
  <dc:title>Diapositiva 1</dc:title>
</cp:coreProperties>
</file>