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5E9E-21D0-4E64-B829-453D3726F7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FFAF-3D9C-4B26-BC53-ECC5C4FEF8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5EA-21DD-431A-935A-5F3629CF95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73B-F103-4631-967C-B39B4FA9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B46-6B3E-4DCF-88FA-A20DBE5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AFC-610E-4F1A-B92D-4CD26943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262-CEA5-4CAE-9C6C-2F49431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C71-E2AB-4811-925F-0BED977D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C8F-F6EB-4E2F-95B8-D358FFE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643-802C-4B1D-823B-800A602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163-354B-4C2A-B877-3C2D6C6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B20-1D7F-4F32-8898-C0B9F88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045-C2B5-4190-AE8A-2E28DF0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C4A-463C-4C5B-AB39-8CEFAC1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1CB-86F2-470B-880C-EF91B76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38D-824B-48CE-BD25-032AC70CE6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104292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sys</cp:lastModifiedBy>
  <dcterms:modified xsi:type="dcterms:W3CDTF">2016-04-06T04:44:46Z</dcterms:modified>
  <cp:revision>44</cp:revision>
  <dc:subject/>
  <dc:title>TITLE</dc:title>
</cp:coreProperties>
</file>