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4E0-F239-42EF-9155-3E65AB04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6E5-66D8-4D95-A9EF-A023644E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FB0-1357-472B-A930-DD20A645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314-2FEF-484E-BFF9-469C9AB2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579-29D3-4DB6-8151-01D9D06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473-C7E2-4920-97C6-7CF43CC9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1DB-F281-4C6D-B8BD-DD486073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F7B-AC85-4A6B-885E-8C68753B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17B-38F3-4787-B123-D794B4D2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E1C-8AC0-458B-B435-51843B68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D10-AC63-49D0-98C7-580CCBB2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BC3-24FA-4C49-AC98-CF0C74F2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7AF9-A123-46B9-B6A0-FD572F9E07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5189040"/>
            <a:ext cx="5184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7"/>
          <p:cNvSpPr/>
          <p:nvPr/>
        </p:nvSpPr>
        <p:spPr>
          <a:xfrm>
            <a:off x="250920" y="5805360"/>
            <a:ext cx="489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516720" y="36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5:01:36Z</dcterms:modified>
  <cp:revision>704</cp:revision>
  <dc:subject/>
  <dc:title>Diapositiva 1</dc:title>
</cp:coreProperties>
</file>