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C9A-FA91-4123-BA3E-DC4A2146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4DF-D923-4E20-92CE-1B148C5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E96-210D-491B-BDD5-DD025652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4F0-13F3-41E1-879B-E20A0DF4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0C0-8EA8-4890-8A05-A34577C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067-EE78-4952-9572-A6E5726C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F7A-0083-4706-9ECA-57B9C062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CAF-673D-4897-9694-C8C011DC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21-5E30-4892-AA1D-0D704CC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27A-9215-481B-BA1F-559E7326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28F-1DD2-4367-A0DD-F8A7484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E01-A88C-4A6F-85AC-14CAB89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16F-87F7-4866-AE9F-14CF35F596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843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4-08T05:54:38Z</dcterms:modified>
  <cp:revision>270</cp:revision>
  <dc:subject/>
  <dc:title>Diapositiva 1</dc:title>
</cp:coreProperties>
</file>