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D03-0586-47B0-8E45-4974E68B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B53-E271-4CEE-99C1-21B19B33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DCD-B7F0-4C66-8171-52C6156B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65A-91A2-4099-A295-DB27DEAE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F02-864A-45F2-A55D-6C5ADDA1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7DB-70DE-4605-83DD-5E239661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658-5F26-4100-8B69-1D55EFB3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1E3-75E0-4400-9F5B-91A3622C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21B-C5BB-4C1B-9881-183A6A32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D1E-66C5-4B3C-9692-D3A4ABDF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94E-0815-4FCE-8683-F3656C09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495-14B3-4D4A-B63B-197831D7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0478-FECF-4887-8D34-1342BACE4E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8920" y="3860640"/>
            <a:ext cx="482436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4716360" y="5084640"/>
            <a:ext cx="4103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85840" y="585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3882960" y="1052640"/>
            <a:ext cx="48862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429680" y="1643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429680" y="221472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429680" y="33577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429680" y="3929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429680" y="45007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429680" y="5072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429680" y="2786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3882960" y="1052640"/>
            <a:ext cx="48862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00960" y="1500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00960" y="2071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00960" y="3214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00960" y="3786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00960" y="4357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00960" y="4929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00960" y="264312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5:26:40Z</dcterms:modified>
  <cp:revision>811</cp:revision>
  <dc:subject/>
  <dc:title>Diapositiva 1</dc:title>
</cp:coreProperties>
</file>