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BE1-D172-48A8-BC06-51C7C52F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18B-865F-4F1E-BD59-B82ED4B9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D16-17D9-459E-864B-A217755F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6F7-4ED7-4F1F-A88B-B610F89F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CBA-70DC-482F-99BE-91B45984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725-0452-4053-AA9E-C844918D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B11-E503-45F5-9C44-1A702B5A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E1A-4868-4CB7-A88A-079E2CA4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3DD-F1F9-40A6-A81E-B99C49F3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CD0-573C-419B-9966-28287168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18C-C8DB-4B41-9983-2A5FE6FC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5B9-A2F9-44A1-8ADA-C90D1E14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836F-FF55-444D-9103-038D03B748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501300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276720" y="5805360"/>
            <a:ext cx="4897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My presentation description</a:t>
            </a:r>
            <a:br>
              <a:rPr sz="2000"/>
            </a:b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add your descriptio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4292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71280"/>
            <a:ext cx="75088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71280"/>
            <a:ext cx="75088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71280"/>
            <a:ext cx="75088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371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1464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950760"/>
            <a:ext cx="4628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42884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0016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14316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1484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28616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857840"/>
            <a:ext cx="1285560" cy="571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57184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</cp:lastModifiedBy>
  <dcterms:modified xsi:type="dcterms:W3CDTF">2013-01-12T04:58:10Z</dcterms:modified>
  <cp:revision>704</cp:revision>
  <dc:subject/>
  <dc:title>Diapositiva 1</dc:title>
</cp:coreProperties>
</file>