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8A6-07D6-4241-959F-3D2367B9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AAA-45A4-4677-9DD8-7119A136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0200-670C-4EDA-B1F0-303BCCA8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F8E-F038-40EA-ABBC-F60470C3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AEBA-C507-47CF-ADDA-BCE7785C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50F-4210-4172-AC64-38F3E587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5A2-4593-407D-B64D-5C191B66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E35-0495-42D1-AE0D-A94DF928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4EE-BA04-4482-96B7-49940FF1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285-0E98-495C-A60F-244C9ACB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97C-BB4F-47DC-B8EA-6011A51C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A37-2F02-46AC-8138-D290B49A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EB1F-4548-4F3A-882F-958E9D3304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720" y="4379760"/>
            <a:ext cx="4248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7f7f7f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3995640" y="5084640"/>
            <a:ext cx="4537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7f7f7f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7f7f7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7f7f7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1547640" y="321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35:16Z</dcterms:modified>
  <cp:revision>712</cp:revision>
  <dc:subject/>
  <dc:title>Diapositiva 1</dc:title>
</cp:coreProperties>
</file>