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A171-3CAC-4AFE-B616-910FE3DE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4501-9A86-4683-963C-2DB73250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D87F-A87F-4FE3-8C72-2D30217E1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594-730E-40EA-9507-DD84E47F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E7D5-1B50-4846-B246-AAE5C9631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3BE-9F33-4F0C-9040-6D9749F2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ABB-2D4F-494E-8FC8-B0713B64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A7A-C868-4C25-9D72-92C87A20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8AA-060D-4C89-8137-C1E76DE0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58C8-EF0E-4E2F-98BE-D3D6C54EE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55C1-5CFE-447E-B943-867996BD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BF5D-35F0-44BE-BE67-4A02F48E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FD37-3493-4CCE-A4CC-227934A1633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348000" y="2636640"/>
            <a:ext cx="5361120" cy="76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336699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6"/>
          <p:cNvSpPr/>
          <p:nvPr/>
        </p:nvSpPr>
        <p:spPr>
          <a:xfrm>
            <a:off x="3852720" y="1876320"/>
            <a:ext cx="4896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336699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3348000" y="5661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3-06T08:35:45Z</dcterms:modified>
  <cp:revision>702</cp:revision>
  <dc:subject/>
  <dc:title>Diapositiva 1</dc:title>
</cp:coreProperties>
</file>