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0C3-CFDC-472E-B5FA-B1509F38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A40-ECDC-4A38-AFC2-9CADF85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C0F-A243-42D8-9C1A-658ED15E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E0F-EF72-4B75-9383-2C260901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789-5988-4FE8-AD62-DE836FE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15D-6545-4B60-82F4-010B806C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A60-EFE5-4BD7-8AEB-79EE267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43E-B714-4E35-B08D-04269B08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051-C0C9-40C6-8968-03FDD858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929-5140-498F-941D-223D905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72E-CE1D-474C-838A-DF4D4DA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6C1-032A-4278-AFAB-E58D038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3106-04C7-4AE4-BB16-83D69DC93B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125360"/>
            <a:ext cx="5688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50021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1620720" y="177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a50021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-10944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18:15Z</dcterms:modified>
  <cp:revision>722</cp:revision>
  <dc:subject/>
  <dc:title>Diapositiva 1</dc:title>
</cp:coreProperties>
</file>