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880-EE4D-4A76-AE96-73BAC721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52B-E0F3-4EEA-8196-5B155CC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4BF-3876-4902-8D53-FD8CFD0D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A59-C1C4-4F40-854D-B7C24CFB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2C2-176D-4B2E-9170-DFF7148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6F9-71CD-4BC6-A0C6-52D6332B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DC5-D11F-4E0F-AE8E-02A56196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360-6562-41EB-B812-D196FA5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551-580D-4473-B387-F3856E2C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482-00C3-4805-862D-C852296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BB6-4097-45CA-BA8A-35B8F7C6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C43-EB8B-4C0E-AC21-C5030B1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AF8-000C-4404-822F-DE2EFFE352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1472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58:31Z</dcterms:modified>
  <cp:revision>329</cp:revision>
  <dc:subject/>
  <dc:title>Diapositiva 1</dc:title>
</cp:coreProperties>
</file>