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039-234F-4D59-9C66-47EBC980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037-E039-48D1-A42F-290EA4D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C69-A4FD-45C6-8F7F-C4509076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94B-E18F-4DFA-920E-00ABBE94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6C0-C2E5-4DCC-9E82-AFE2647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6B7-749E-4C48-84E3-CA08DA32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E42-8682-45AC-800B-38A39761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917-E067-4F7A-94F4-8A94D46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0AD-861E-4D2F-B412-30E95ECD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33C-03AB-4343-A84E-EDCB4C2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8F5-6F42-469F-BA44-55EEF4E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88F-F7D1-4B78-8E1B-8FF7F1C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5968-34EE-483B-AE77-C19C91E856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cc66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00068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58:53Z</dcterms:modified>
  <cp:revision>634</cp:revision>
  <dc:subject/>
  <dc:title>Diapositiva 1</dc:title>
</cp:coreProperties>
</file>