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F8F-16EF-4D62-99DB-1D16FCAB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250-4725-4568-8F7B-60D9F41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7E4-A6CF-433E-82BE-0DFBF6C1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FC9-C889-4668-93C8-173263E1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EEE-8415-465F-9D68-E3E4DDD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2A1-79F5-4FB7-92AF-AAF9642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7A6-66A3-4BFD-8C00-FE67455B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8A1-BBC9-4EAE-B16A-CBE45327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3BD-70E5-404D-A3F2-D50ED1E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03F-A0E9-49EF-B9A7-447B997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C76-F298-4333-A38C-9D277A8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685-7AC1-4D40-B518-8B0BFFE8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5285-606C-4FB9-AE92-D98EDD2C46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168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9T03:57:00Z</dcterms:modified>
  <cp:revision>310</cp:revision>
  <dc:subject/>
  <dc:title>Diapositiva 1</dc:title>
</cp:coreProperties>
</file>