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9B6-916C-4925-970A-BC7E215A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7AA-42D3-4E8D-B593-228DDF58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D51-1E72-4D5D-BE57-2DE5B3CE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170-63AA-4613-80D5-24D8812B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261-610D-4621-BE74-03794E3E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55B-DC43-4D3F-B15D-667A6EE0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620-6FCA-4EFF-9893-DAE05776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A39-6DDB-4310-AFAF-492ADB5B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FDF-0231-4BD7-A6FB-F599AC65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331-B943-4018-8143-26A11425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8A1-B51E-4E3B-8D47-5122DCB4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68C-536F-46D3-8390-7A49C293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1310-49E9-4685-B050-F6FC6029FA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78596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627228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radan</cp:lastModifiedBy>
  <dcterms:modified xsi:type="dcterms:W3CDTF">2016-04-09T03:47:02Z</dcterms:modified>
  <cp:revision>6</cp:revision>
  <dc:subject/>
  <dc:title>Title</dc:title>
</cp:coreProperties>
</file>