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879-7D35-433B-8015-19CA4863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4E1-E8BD-405E-A85F-FA5049D7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C6F-D14B-4DA5-B144-D4C94592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62E-1F69-4E2E-9A77-E049ACFC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498-8A4A-4D3C-AA1E-6C8729C6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EE5-3D15-45BA-874D-FE710D4C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D44-DBB2-43DA-906B-ABAA2D65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C5A-73A7-48CA-A34C-99560B74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16A-EAD4-4608-9538-083432F6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DC1-CE7E-45D8-AF9A-43E0AE54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864-4110-4E41-8E54-C35A0843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281-4038-42B6-929C-E84EF9E1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C2FA-C1DE-43E7-8822-CE20E485D35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640368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39528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sys</cp:lastModifiedBy>
  <dcterms:modified xsi:type="dcterms:W3CDTF">2016-04-06T05:23:49Z</dcterms:modified>
  <cp:revision>39</cp:revision>
  <dc:subject/>
  <dc:title>TITLE</dc:title>
</cp:coreProperties>
</file>