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9B35-AD44-475C-A925-08BED2E4F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FA6F-767E-4BB2-8393-B675BE3F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C734-250B-4F35-8898-418B3E126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D54B-EC4F-40D8-9997-BE4C33714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A9EE-517C-4173-B21C-FFFC0A7F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B4FE-F689-467E-B2E6-18577063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F144-8FEA-497A-B981-4A2148B0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1930-86CB-4E79-B3FD-04DF97B6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F619-3013-4439-AECF-AF092CF1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0E1D-D915-4B79-B93E-E1299E41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CA06-53E9-4193-A616-DD790C66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2D1F-A09F-44DF-A085-522E3E15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E9EC-0D04-4074-ADAA-856B8406DA3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27640" y="836640"/>
            <a:ext cx="4465440" cy="54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427640" y="1413000"/>
            <a:ext cx="417672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company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6786720" y="6000840"/>
            <a:ext cx="23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4140360" y="1154160"/>
            <a:ext cx="4628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3"/>
          <p:cNvSpPr/>
          <p:nvPr/>
        </p:nvSpPr>
        <p:spPr>
          <a:xfrm>
            <a:off x="7572240" y="1571760"/>
            <a:ext cx="1285920" cy="428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4"/>
          <p:cNvSpPr/>
          <p:nvPr/>
        </p:nvSpPr>
        <p:spPr>
          <a:xfrm>
            <a:off x="7572240" y="2143080"/>
            <a:ext cx="1285920" cy="428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5"/>
          <p:cNvSpPr/>
          <p:nvPr/>
        </p:nvSpPr>
        <p:spPr>
          <a:xfrm>
            <a:off x="7572240" y="3286080"/>
            <a:ext cx="1285920" cy="4287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7572240" y="3857760"/>
            <a:ext cx="1285920" cy="428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7"/>
          <p:cNvSpPr/>
          <p:nvPr/>
        </p:nvSpPr>
        <p:spPr>
          <a:xfrm>
            <a:off x="7572240" y="4429080"/>
            <a:ext cx="1285920" cy="428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8"/>
          <p:cNvSpPr/>
          <p:nvPr/>
        </p:nvSpPr>
        <p:spPr>
          <a:xfrm>
            <a:off x="7572240" y="5000760"/>
            <a:ext cx="1285920" cy="428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9"/>
          <p:cNvSpPr/>
          <p:nvPr/>
        </p:nvSpPr>
        <p:spPr>
          <a:xfrm>
            <a:off x="7572240" y="2714760"/>
            <a:ext cx="1285920" cy="428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4140360" y="928800"/>
            <a:ext cx="457488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3"/>
          <p:cNvSpPr/>
          <p:nvPr/>
        </p:nvSpPr>
        <p:spPr>
          <a:xfrm>
            <a:off x="7429680" y="1413000"/>
            <a:ext cx="1271520" cy="730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4"/>
          <p:cNvSpPr/>
          <p:nvPr/>
        </p:nvSpPr>
        <p:spPr>
          <a:xfrm>
            <a:off x="7429680" y="1984320"/>
            <a:ext cx="1271520" cy="730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5"/>
          <p:cNvSpPr/>
          <p:nvPr/>
        </p:nvSpPr>
        <p:spPr>
          <a:xfrm>
            <a:off x="7429680" y="3127320"/>
            <a:ext cx="1271520" cy="730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6"/>
          <p:cNvSpPr/>
          <p:nvPr/>
        </p:nvSpPr>
        <p:spPr>
          <a:xfrm>
            <a:off x="7429680" y="3699000"/>
            <a:ext cx="1271520" cy="730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7"/>
          <p:cNvSpPr/>
          <p:nvPr/>
        </p:nvSpPr>
        <p:spPr>
          <a:xfrm>
            <a:off x="7429680" y="4270320"/>
            <a:ext cx="1271520" cy="730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8"/>
          <p:cNvSpPr/>
          <p:nvPr/>
        </p:nvSpPr>
        <p:spPr>
          <a:xfrm>
            <a:off x="7429680" y="4842000"/>
            <a:ext cx="1271520" cy="73008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9"/>
          <p:cNvSpPr/>
          <p:nvPr/>
        </p:nvSpPr>
        <p:spPr>
          <a:xfrm>
            <a:off x="7429680" y="2556000"/>
            <a:ext cx="1271520" cy="730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besat3</cp:lastModifiedBy>
  <dcterms:modified xsi:type="dcterms:W3CDTF">2013-01-14T09:37:34Z</dcterms:modified>
  <cp:revision>595</cp:revision>
  <dc:subject/>
  <dc:title>Diapositiva 1</dc:title>
</cp:coreProperties>
</file>