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9999-2B49-4A3D-A0DE-955F5400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2A85-8571-4945-B93C-89B66E3E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06A0-6067-49EA-AD86-B98731EA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BAE0-BE84-49FB-8A20-5A0B3547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0E78-0647-4D31-8A49-23AD2160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3C8E-7E2A-4603-8AC6-2131E062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69B3-EFC0-4D43-AEAF-CB644F43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9238-0B3D-4CB7-8F4E-74132FE8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5119-3A71-4BB6-8AED-5E1D06EA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1CFF-B7B6-4998-9DD1-3E5B7B3F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9581-7845-47CC-AFD7-729E941A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3DCF-E943-4A83-A9A8-234BEACD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CAE9-D664-4094-9F12-B2DD27B707E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365720"/>
            <a:ext cx="518472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7"/>
          <p:cNvSpPr/>
          <p:nvPr/>
        </p:nvSpPr>
        <p:spPr>
          <a:xfrm>
            <a:off x="468360" y="5084640"/>
            <a:ext cx="4895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3564000" y="6021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4-06T05:01:54Z</dcterms:modified>
  <cp:revision>709</cp:revision>
  <dc:subject/>
  <dc:title>Diapositiva 1</dc:title>
</cp:coreProperties>
</file>