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162-EB6E-4B7F-B019-6C8E9E99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882-D5D1-41D4-8D7A-1C90BC0D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C2A-1301-46B7-B51D-E4FBBAD2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3CE-6E6F-48A9-AC54-53DDB254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CD7-1808-461D-B52B-83AE1095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A7B-2AD7-4CDD-B3CD-EB90BCE6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5EC-D0E0-42C8-91A6-38C90C19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C35-B5C1-4F42-9187-A2AA9460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0BD-0CEA-49B6-8994-A81A02A7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CC8-5970-409D-B497-AF8B7ECC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FFD-3A15-4A7B-9403-C105B9B8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A1C-08AB-416B-BDB7-00EA3A8E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8717-3156-4288-B848-3945DC8CF2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707920"/>
            <a:ext cx="56894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006664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4"/>
          <p:cNvSpPr/>
          <p:nvPr/>
        </p:nvSpPr>
        <p:spPr>
          <a:xfrm>
            <a:off x="1763640" y="3500280"/>
            <a:ext cx="5689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6664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82692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18:42Z</dcterms:modified>
  <cp:revision>683</cp:revision>
  <dc:subject/>
  <dc:title>Diapositiva 1</dc:title>
</cp:coreProperties>
</file>