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682-E94D-48B7-9541-22515009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8AA-A2A6-490C-8AF9-5C403BC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841-F1F3-4775-84C0-0D839096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849-DB1C-4FFC-8769-B949CEE5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487-C43E-4A85-B691-4F008DAC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117-95A6-4AAD-B9A2-2E17B128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23B-45C3-499F-80FF-2A9757D6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37C-FEE4-4F71-889E-DF2074DB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C24-6FF8-4CDE-8E80-C47ECA3A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437-EA6E-4BEF-BF1A-2F936F72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8A8-3906-444C-8718-5CF08B4F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43E-8BA9-48DB-BA1F-AFCB7BC7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EA3D-6BDB-46D3-8000-2B6DA876E2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2400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sys</cp:lastModifiedBy>
  <dcterms:modified xsi:type="dcterms:W3CDTF">2016-04-06T05:24:09Z</dcterms:modified>
  <cp:revision>26</cp:revision>
  <dc:subject/>
  <dc:title>TITLE</dc:title>
</cp:coreProperties>
</file>