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974-83F6-4DF7-BD2D-8B4DB4B9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903-E64B-43E5-B9B9-E3B05DE0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18E-58CC-420B-9589-26FEFB55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538-8A36-436F-9A27-CFB0AA86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E95-0107-46EB-B66E-4A46D791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32A-8999-409D-B283-790A7B90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F78-3906-453C-960D-4A94D4E6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1EB-7380-41DB-8EE5-D8A67623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E66-370D-4D4B-B5DF-61094975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9A4-FD6A-4E88-9334-F45DE2D7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535-621F-46D8-AFCC-8EE30E5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748-D055-43FB-AE70-7D3D825A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F853-F8F0-46D8-B800-A9384CF9B8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374840" y="5935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sys</cp:lastModifiedBy>
  <dcterms:modified xsi:type="dcterms:W3CDTF">2016-04-06T04:45:06Z</dcterms:modified>
  <cp:revision>69</cp:revision>
  <dc:subject/>
  <dc:title>TITLE</dc:title>
</cp:coreProperties>
</file>