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DDB-D352-4C17-A4D4-8AAE8B7E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3A7-E542-47EA-B0EC-5356FF73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77C-2181-4D66-B204-FDC937BB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F25-2DC9-4A86-86D6-A31A4263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2D3-7F10-4334-AABA-9782993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F67-754F-4856-9ADD-A6D3230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4C0-7299-4FD3-917A-CD83B0C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696-9129-4E0F-B968-6B5DCC84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107-CA50-42B2-8053-DE190D4D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E75-4CB2-46C1-BCC1-A069A72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1F9-EA9B-4E73-9481-21B08ADE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834-96CC-4DA2-AF16-1E497B8F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BC03-0DD2-4890-A794-883E89C695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386028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74880" y="4462200"/>
            <a:ext cx="399240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0800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4-09T03:56:42Z</dcterms:modified>
  <cp:revision>585</cp:revision>
  <dc:subject/>
  <dc:title>Diapositiva 1</dc:title>
</cp:coreProperties>
</file>