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90E-123F-427C-BA2F-EF1B9D8A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EBB-0436-4705-811A-CF4D2451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E75-EFB2-4514-A517-2479916B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A45-0728-4C82-A3EB-4257B985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DF7-10B3-4532-869F-5767A0E0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92E-5561-4892-B96C-37D8AAC9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007-8ED2-418F-922F-F13B149A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DCA2-2AA8-42FD-846A-62FEEAD1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7CA-9252-49E2-B0DA-2B4A0A5C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6BC-FCF4-4588-84C0-34D3B3CA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5E1-5BD6-4613-A833-CAC897FA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1F6-6FAB-4658-BE3C-40117835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B153-AE4A-4405-8D41-FAB6746F4E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32000" y="3412800"/>
            <a:ext cx="5654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262626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3851280" y="4338720"/>
            <a:ext cx="486396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262626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95280" y="5780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19:42Z</dcterms:modified>
  <cp:revision>739</cp:revision>
  <dc:subject/>
  <dc:title>Diapositiva 1</dc:title>
</cp:coreProperties>
</file>