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17C6-B280-474A-930A-81B1BBA1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6DA8-F861-4850-9F7F-BB162824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9329-1238-452A-86A0-92131692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88F7-42F2-4BBD-887A-002F2518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CC76-54E3-485B-8B4F-7984AEB2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C6D1-32E6-4CF2-A0F3-00A4EB3E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D4F0-18FD-4029-81E5-934091B5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980A-5F91-40C3-A94A-298C16C9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B560-2EEF-4A3F-873F-F2BDD721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FA35-2717-479B-BFA9-A0E3A597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EAC8-E087-4670-A858-23971FAA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6174-F1EF-4E5D-AAAD-7C6C30A8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B68F-72E6-4C3F-B347-9B4559F5027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489600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336699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6"/>
          <p:cNvSpPr/>
          <p:nvPr/>
        </p:nvSpPr>
        <p:spPr>
          <a:xfrm>
            <a:off x="396720" y="1700280"/>
            <a:ext cx="489600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336699"/>
                </a:solidFill>
                <a:latin typeface="Arial"/>
              </a:rPr>
              <a:t>Subheading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6443640" y="5950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647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3-06T08:30:21Z</dcterms:modified>
  <cp:revision>696</cp:revision>
  <dc:subject/>
  <dc:title>Diapositiva 1</dc:title>
</cp:coreProperties>
</file>