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04F-361D-408C-9F05-F7CA9349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239-928C-400E-A4A3-4255340C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C907-3310-44C8-8B22-48F1F480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1D8-2478-4309-B3F2-CB15CE95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56F-B2D8-4BA0-B863-94D10FB2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316-CC53-4572-B1B4-2C854DC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290-5538-4167-ABF4-C812B962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DFB-93FE-4AFF-85CE-670821A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ADC-8B15-4976-9F95-7D950141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F28-4C44-4A5D-AC0B-A2F0FE0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1D4-F2F1-4190-A1D4-BBEAFAF3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A623-153E-4F30-9718-3734D2C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EECB-AD4D-485E-A402-8965BE1977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7640" y="357300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427640" y="4149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Sub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6000840" y="1714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786120" y="1571760"/>
            <a:ext cx="29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 flipV="1" rot="9252600">
            <a:off x="5754960" y="756000"/>
            <a:ext cx="26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071920"/>
            <a:ext cx="671508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vin Pendar</cp:lastModifiedBy>
  <dcterms:modified xsi:type="dcterms:W3CDTF">2016-02-15T02:03:06Z</dcterms:modified>
  <cp:revision>657</cp:revision>
  <dc:subject/>
  <dc:title>Diapositiva 1</dc:title>
</cp:coreProperties>
</file>