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FA9-D4DC-4F01-9032-6739EBBD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085-E6D6-4C49-BD61-1EBE0453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55F-EF54-46BB-A30F-53FC53D1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031-60CF-40CF-BEBB-11829949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D96F-9B36-4A70-B68F-349C3A4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F3B-D891-40C2-8233-65F91F5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3ED-EE73-48F7-B3D0-C5F0AFF3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93A-8D9D-43EA-B408-537ED271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B0E-40C4-4C6B-A8BA-4803C53D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6AF-868C-4D37-9D9C-109B680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ACB-3A37-4CB0-AFA1-D6145269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1496-31DF-4287-A3CE-7895631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DD66-94FA-480E-AE78-2162235C7E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3"/>
          <p:cNvSpPr/>
          <p:nvPr/>
        </p:nvSpPr>
        <p:spPr>
          <a:xfrm>
            <a:off x="395280" y="836640"/>
            <a:ext cx="53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ff99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6"/>
          <p:cNvSpPr/>
          <p:nvPr/>
        </p:nvSpPr>
        <p:spPr>
          <a:xfrm>
            <a:off x="358920" y="1557360"/>
            <a:ext cx="53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ff99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53964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360" y="1052280"/>
            <a:ext cx="4628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0360" y="1052280"/>
            <a:ext cx="4628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17:26Z</dcterms:modified>
  <cp:revision>770</cp:revision>
  <dc:subject/>
  <dc:title>Diapositiva 1</dc:title>
</cp:coreProperties>
</file>