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UY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CCF-D7E4-44F0-9DAA-578F8C1EF50E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5990-7B93-48A6-B982-31318DB65607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UY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A437-FEBE-4D37-B43B-7E734EA1F135}" type="slidenum">
              <a:rPr b="0" lang="es-UY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78C1-887E-4FFF-AD0B-239CEC35F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800C-5EDB-4F03-B769-5825C823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D406-9565-425B-9619-89FD0F34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0E40-EAD5-45C5-AE29-41260784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150-65C9-49F8-905C-A3B504887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0D9-A88B-4EE9-9701-E5A82F24E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23BE-4992-441F-B741-17FB2C9F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646-5A2A-4B38-A105-191B4401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D93-7BA1-45EA-A222-DD25CB5E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99BA-101C-4053-B73B-1167C500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42C5-C640-4703-83BC-D5E42D70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F7FA-973E-4102-BC74-29C07A1CA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4D85-242A-4DFB-B121-B61C0A47C97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57120" y="49356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2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1357200"/>
            <a:ext cx="8686800" cy="5500800"/>
          </a:xfrm>
          <a:prstGeom prst="rect">
            <a:avLst/>
          </a:prstGeom>
          <a:ln w="0">
            <a:noFill/>
          </a:ln>
        </p:spPr>
      </p:pic>
      <p:sp>
        <p:nvSpPr>
          <p:cNvPr id="7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57200" y="1285920"/>
            <a:ext cx="8686800" cy="5572080"/>
          </a:xfrm>
          <a:prstGeom prst="rect">
            <a:avLst/>
          </a:prstGeom>
          <a:ln w="0">
            <a:noFill/>
          </a:ln>
        </p:spPr>
      </p:pic>
      <p:sp>
        <p:nvSpPr>
          <p:cNvPr id="8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89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109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  <a:cs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radan</cp:lastModifiedBy>
  <dcterms:modified xsi:type="dcterms:W3CDTF">2016-04-09T03:56:25Z</dcterms:modified>
  <cp:revision>52</cp:revision>
  <dc:subject/>
  <dc:title>TITLE</dc:title>
</cp:coreProperties>
</file>