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335-E6D8-4884-A980-DFA0DDFE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AF2-60E9-47D2-9B6C-F24BFE59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465-3327-40B1-9904-DF10D6E2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C39-28F1-478E-B7DF-64510935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A6D-1FE2-4328-98F7-B9BFB415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934-ED66-4B93-8C42-F9867BA8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342-45F0-4580-975B-8F579D7F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70C-1D05-409B-9C23-ABDFA429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EA2-541A-4A09-8173-54452346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9D5-F242-4A14-B404-73333959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67B-D412-45C7-88A3-139A2DB6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521-1E35-471E-88A7-FA4D9F4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9AEC-BE58-4432-9933-E78B90AA03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14720" y="5429160"/>
            <a:ext cx="52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Novin Pendar</cp:lastModifiedBy>
  <dcterms:modified xsi:type="dcterms:W3CDTF">2016-02-15T01:51:55Z</dcterms:modified>
  <cp:revision>100</cp:revision>
  <dc:subject/>
  <dc:title>TITLE</dc:title>
</cp:coreProperties>
</file>