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1E8-234A-4C06-8B00-DEAD6A37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2D0-9A9F-4506-BF62-D5CC47D2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F92-8E2E-4C3A-9E5E-6E63FC3A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051-31E0-4317-B8E0-3E3A36AD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60B-F38A-452C-919B-DC9C471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E6F-674B-4955-9645-CC393EE9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7CE-29AF-4B67-B6E0-7B518308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E5E-1DF1-45E3-8335-910ABFCA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E65-0E71-4350-82EF-BCAFD5D6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A6A-91E3-4D13-A018-B6D202A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C4B-012D-4861-A327-3C0E720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2D6-B1E8-4F28-8F30-C5A6E5F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E139-F642-4CCB-B436-271F23AFB5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501336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564000" y="551664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6666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43680" y="39290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ovin Pendar</cp:lastModifiedBy>
  <dcterms:modified xsi:type="dcterms:W3CDTF">2016-02-15T01:45:43Z</dcterms:modified>
  <cp:revision>626</cp:revision>
  <dc:subject/>
  <dc:title>Diapositiva 1</dc:title>
</cp:coreProperties>
</file>