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897-CA0F-4177-89FB-911B007C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14A-4BFA-42CD-B6A1-A24D06D8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17E-AC9D-4305-8F43-BBC67DB0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F62-B46F-4ADA-980B-F46F65A9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D2C-DDDC-46D2-9F1F-7B4AA1F9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009-665B-44DD-AE9A-8E270523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8B4-25F0-41AA-8B5F-F531FD13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0F8-1BDF-4B30-BF79-3CF43E82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C95-2C5E-434A-965B-2BE952B7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16B-9277-4B92-9E1C-9A318EC1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5F9-F6C8-49C1-B147-73BF6CE2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ADA-91EB-4ED3-AB2A-56176A91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567F-4065-43C4-9BF6-62B742FB18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48960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28616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3986280" y="1052640"/>
            <a:ext cx="4782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15200" y="1643040"/>
            <a:ext cx="13287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15200" y="2214720"/>
            <a:ext cx="13287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15200" y="3357720"/>
            <a:ext cx="13287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15200" y="3929040"/>
            <a:ext cx="13287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15200" y="4500720"/>
            <a:ext cx="13287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15200" y="5072040"/>
            <a:ext cx="13287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15200" y="2786040"/>
            <a:ext cx="13287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294080" y="992160"/>
            <a:ext cx="4475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43800" y="160020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43800" y="2171880"/>
            <a:ext cx="1243080" cy="5428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43800" y="331488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43800" y="388620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43800" y="445788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43800" y="502920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43800" y="274320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311720" y="977760"/>
            <a:ext cx="4457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620120" y="1447920"/>
            <a:ext cx="1238040" cy="552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620120" y="2019240"/>
            <a:ext cx="1238040" cy="5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620120" y="3162240"/>
            <a:ext cx="1238040" cy="5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620120" y="3733920"/>
            <a:ext cx="1238040" cy="552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620120" y="4305240"/>
            <a:ext cx="1238040" cy="5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620120" y="4876920"/>
            <a:ext cx="1238040" cy="552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620120" y="2590920"/>
            <a:ext cx="1238040" cy="5522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311720" y="1031760"/>
            <a:ext cx="4457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620120" y="1486080"/>
            <a:ext cx="123804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620120" y="2057400"/>
            <a:ext cx="1238040" cy="514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620120" y="3200400"/>
            <a:ext cx="1238040" cy="5144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620120" y="3772080"/>
            <a:ext cx="123804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620120" y="4343400"/>
            <a:ext cx="1238040" cy="514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620120" y="4915080"/>
            <a:ext cx="123804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620120" y="2629080"/>
            <a:ext cx="123804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294080" y="1039680"/>
            <a:ext cx="44751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43800" y="1562040"/>
            <a:ext cx="1243080" cy="50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43800" y="2133720"/>
            <a:ext cx="124308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43800" y="3276720"/>
            <a:ext cx="124308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43800" y="3848040"/>
            <a:ext cx="1243080" cy="509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43800" y="4419720"/>
            <a:ext cx="124308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43800" y="4991040"/>
            <a:ext cx="1243080" cy="50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43800" y="2705040"/>
            <a:ext cx="1243080" cy="50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3762360" y="977760"/>
            <a:ext cx="5006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467480" y="144792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467480" y="201924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467480" y="316224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467480" y="373392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467480" y="4305240"/>
            <a:ext cx="139068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467480" y="487692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467480" y="259092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002120" y="870120"/>
            <a:ext cx="46641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391520" y="137160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391520" y="194328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391520" y="308628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391520" y="365760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391520" y="422928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391520" y="4800600"/>
            <a:ext cx="1295280" cy="628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391520" y="251460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ASUS</cp:lastModifiedBy>
  <dcterms:modified xsi:type="dcterms:W3CDTF">2016-04-08T07:53:46Z</dcterms:modified>
  <cp:revision>43</cp:revision>
  <dc:subject/>
  <dc:title>TITLE</dc:title>
</cp:coreProperties>
</file>