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9D4-68DE-475E-A8E2-3B98ED94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2A6-E223-4849-89F9-CA93F44C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C03-6673-4D22-9054-3518348F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EAF-3836-43B6-91A0-C6578F9C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A0A-97B2-42CA-BE8F-EA8A1B43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6B1-5D40-459C-8E1B-9F2F6D65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00B-4B8D-49D1-AED3-5F9BC477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77A-7D0D-4C3B-973D-8EC87857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FB7-C3FA-4F05-B9A7-FF369AE4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6CC-DD94-4CE6-A692-6EA24775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BAF-59BB-4FBE-9216-92AF7CE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D39-1687-4477-AB63-B251D801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BA88-8566-4849-83F4-60C8A9151D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24000" y="3357720"/>
            <a:ext cx="442764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3924360" y="393372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08:09Z</dcterms:modified>
  <cp:revision>706</cp:revision>
  <dc:subject/>
  <dc:title>Diapositiva 1</dc:title>
</cp:coreProperties>
</file>