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1693-22B8-4AA5-9F16-FC923D6D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B75C-F81C-4873-A29B-FDC467161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10B-CB67-4F02-9FBC-B6E82919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13EE-FEDA-4332-9341-3920E4A3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C3A-0AD6-47E9-A24D-DBBD10CB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5175-1209-44C4-BAD7-C52EB4CA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FB95-F33D-4B46-9140-8C368AED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C554-AB4B-4D52-BA67-5AFBDBCB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ECC1-C540-4C7B-BC21-CA090F49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454D-700E-4AB7-B6A2-6BE959D0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6580-3387-42A4-A3D6-7AAF597E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E5AE-16DD-4DD3-BD74-070107BC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5955-A987-4CD8-911A-165DE60BA01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51280" y="620640"/>
            <a:ext cx="482112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286160" y="59292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-1</cp:lastModifiedBy>
  <dcterms:modified xsi:type="dcterms:W3CDTF">2016-04-11T11:08:01Z</dcterms:modified>
  <cp:revision>427</cp:revision>
  <dc:subject/>
  <dc:title>Diapositiva 1</dc:title>
</cp:coreProperties>
</file>