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FED6-6113-4763-ADC8-AE40AABF5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673D-AC78-484B-8A8F-A23D0531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90A8-C7C1-4A63-86E9-BEF2E9B11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DC91-B978-4E24-87AD-56A6D478B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2994-F0DD-4E90-9828-A01C4195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D225-5092-446E-9CF4-46F95F0B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E1F5-6159-4D5E-9A2F-44DAA6E8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5DBE-1433-47B5-AAD9-ED3F11D8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5162-8380-40BB-9FBD-91A15F2B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4918-B51B-435E-807C-8391E4C8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40CE-3D83-4884-84F9-2E698935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554E-37C3-4391-B585-4DBD799C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A2C6-2B77-43AE-8C50-11F4F4811F0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348000" y="5660640"/>
            <a:ext cx="5400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4572000" y="4724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sys</cp:lastModifiedBy>
  <dcterms:modified xsi:type="dcterms:W3CDTF">2016-04-06T04:18:56Z</dcterms:modified>
  <cp:revision>708</cp:revision>
  <dc:subject/>
  <dc:title>Diapositiva 1</dc:title>
</cp:coreProperties>
</file>