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AF2-0CAF-4919-AAE0-6D8FFB61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948-AAEF-4E05-8631-1D38DCBA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6AD-D517-4A7E-9725-537F5EE3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499-3E95-49C3-92AD-071A89C4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636-6DC0-4599-B58C-18645134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728-42A1-4B56-A389-6B9BF295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B1E-FDF8-4743-B60E-71B4C7C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066-F74F-4342-9F15-A3F38C01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12C-0EBC-4E3E-96CD-CC565F6D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FBA-AFDF-4F62-9F25-3E998EB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EE0-3E1B-4BED-841C-1A6CE384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749-4036-45BE-A8CE-6437F09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A395-30D0-4D48-89CA-14A3DD8604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9080" y="504468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3924360" y="558972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576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20:17Z</dcterms:modified>
  <cp:revision>701</cp:revision>
  <dc:subject/>
  <dc:title>Diapositiva 1</dc:title>
</cp:coreProperties>
</file>