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F4E-FBE3-42E2-89CD-926781A9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CA13-0A55-4C5F-9297-77F38797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028-896B-4215-9E4C-6D043C50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246-7D3E-4628-BA3C-2D79393F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B88-9A13-45DE-834A-A94DF2F2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962-88BE-4E20-9BEB-58644827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B86-160F-42D9-93A5-F8AF6723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5C5-46D4-40C9-B781-C4C91652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0E24-D38D-4A22-8F48-5A6DA5D8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ACF-18D0-4BD4-A312-C93EA5B7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5E73-5648-4B7C-BE43-1D1EAA03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F8A6-B201-468F-9F70-CC5FB472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2414-EF3E-426F-90D8-0B2598B97B3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519120"/>
            <a:ext cx="43927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161645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395280" y="1125360"/>
            <a:ext cx="381636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161645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98764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3-06T07:59:31Z</dcterms:modified>
  <cp:revision>746</cp:revision>
  <dc:subject/>
  <dc:title>Diapositiva 1</dc:title>
</cp:coreProperties>
</file>