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275A-099F-4CD7-8DFB-A17DCCE0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8F6-D171-4DE7-8155-D8D3699E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97F1-CA8E-435E-89B0-717447BA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065-591F-4BC3-A9C7-FCCFBDDF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8393-FA99-4F62-B227-BDC0C2CB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121-A131-4BD6-B9F8-B603B710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333-F04E-4B26-80F0-5A6FDE7D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BBEF-9F36-43EE-A90D-F6ED020B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5050-00AF-407F-9DC7-C838AB43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CEE-2AEA-4D2B-AFDF-3C34873E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D622-0284-45E9-B381-08192DB0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F214-2D0A-4B66-9770-5427AB73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6651-76ED-46A5-8984-AB4B7B28425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4797000"/>
            <a:ext cx="486108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539640" y="5373720"/>
            <a:ext cx="51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4549680" y="602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3-06T08:00:13Z</dcterms:modified>
  <cp:revision>658</cp:revision>
  <dc:subject/>
  <dc:title>Diapositiva 1</dc:title>
</cp:coreProperties>
</file>