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89D-1264-4603-9D7C-267AF413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C44-85D3-4D32-88C0-D26A055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9DF-BD2A-4AE5-940A-FF53FF8B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006-F6F8-41CF-B6DC-6CD58865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525-8A9F-4787-9FEC-D4C17941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97C-7212-494A-A396-9BA9BBA3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61A-89E6-43DB-A55B-2E04F7F8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44F-4CA3-448E-8866-DB3356C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6A2-5231-4494-93CB-62948175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5A0-1E83-448A-ADF7-6ED108B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967-F3A0-44EF-9939-8ECA864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958-5AE9-4EF0-B904-5CB4492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2AD0-D052-4EF8-AE48-EEA86723C2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900000" y="6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19:18Z</dcterms:modified>
  <cp:revision>197</cp:revision>
  <dc:subject/>
  <dc:title>Diapositiva 1</dc:title>
</cp:coreProperties>
</file>