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BA48-006D-42BB-8780-2DBC51B6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0E0-3925-433F-BE12-05464775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28C0-B8EF-4BA4-8A21-903866C5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9EA-14D0-4946-881C-EFFE8BE8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3D1A-3207-4D66-9759-6BD8A7B5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6C71-0925-473A-97DD-95636701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4EF5-9AF7-415B-821C-8CF18A0E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674-18F9-4917-8916-C91310BC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040-F7B4-4435-9BA5-5B22B0B7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F5F-D2C2-4063-9039-6A4B7ACA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B492-25B4-4AD8-BD21-E674F898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90D-7B7E-4710-AB7F-8AC964FD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9774-22F7-4F29-9F9F-D33F7A4678E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6443640" y="544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4-06T04:19:39Z</dcterms:modified>
  <cp:revision>369</cp:revision>
  <dc:subject/>
  <dc:title>Diapositiva 1</dc:title>
</cp:coreProperties>
</file>