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95E-2F5E-44E2-BE5E-D754188E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221-DF9B-4182-B167-FAEAE80F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613-5BF1-4CB8-9F11-B337D035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383-8DF7-4DD0-8327-709D6534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AD2-97B0-4D29-A073-82A0B6D8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E4F-7474-4867-B7EB-F9483680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4DB-40D1-4CB6-BA2E-3DB3F553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C03-9413-424D-8664-D24B137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15C-2FFD-484D-8EBD-8E0A3D38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D11-F7AB-4E51-9CD2-93FB2B0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9A8-57ED-46CF-AC1A-8C49853A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12E-36F2-4F2F-A8F3-54CF9E2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5A6-2661-4D0B-864D-6C963D5F8C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653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348000" y="5157720"/>
            <a:ext cx="5184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084720" y="32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46:15Z</dcterms:modified>
  <cp:revision>637</cp:revision>
  <dc:subject/>
  <dc:title>Diapositiva 1</dc:title>
</cp:coreProperties>
</file>