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B26F-D82E-4983-AFCD-67EB3ED41E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A30B-CCC3-4512-8B7C-56795531A2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79B5-FB72-44BC-AD5A-1D1C6D9CFC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946-8263-4885-88AE-434D13DC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885-E257-4945-BA92-A62D219B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0B5-CF2A-42AA-89FD-48F25314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04F-8D6D-4154-BD5D-2DA67794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8F2-45F2-433F-B340-E4D1D25F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91B-5F47-47F8-B30F-810B879A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4CF-8621-46F4-9931-B979CD03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A77-6452-4E7F-A140-867E43A1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A92-0581-42EA-9A48-7F122707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D2C-2952-4ECC-9D17-44F17EDD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941-7F89-4A84-BB31-3FE64DD2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C19-8505-4F59-9EA9-0AD8B0F6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6DFB-2A83-415E-8F78-8A86EA3E5B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429160"/>
            <a:ext cx="47149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le 3"/>
          <p:cNvSpPr/>
          <p:nvPr/>
        </p:nvSpPr>
        <p:spPr>
          <a:xfrm>
            <a:off x="7543800" y="16146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"/>
          <p:cNvSpPr/>
          <p:nvPr/>
        </p:nvSpPr>
        <p:spPr>
          <a:xfrm>
            <a:off x="7543800" y="21859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5"/>
          <p:cNvSpPr/>
          <p:nvPr/>
        </p:nvSpPr>
        <p:spPr>
          <a:xfrm>
            <a:off x="7543800" y="33289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6"/>
          <p:cNvSpPr/>
          <p:nvPr/>
        </p:nvSpPr>
        <p:spPr>
          <a:xfrm>
            <a:off x="7543800" y="39006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7"/>
          <p:cNvSpPr/>
          <p:nvPr/>
        </p:nvSpPr>
        <p:spPr>
          <a:xfrm>
            <a:off x="7543800" y="44719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8"/>
          <p:cNvSpPr/>
          <p:nvPr/>
        </p:nvSpPr>
        <p:spPr>
          <a:xfrm>
            <a:off x="7543800" y="50436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9"/>
          <p:cNvSpPr/>
          <p:nvPr/>
        </p:nvSpPr>
        <p:spPr>
          <a:xfrm>
            <a:off x="7543800" y="27576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radan</cp:lastModifiedBy>
  <dcterms:modified xsi:type="dcterms:W3CDTF">2016-04-09T03:40:38Z</dcterms:modified>
  <cp:revision>60</cp:revision>
  <dc:subject/>
  <dc:title>TITLE</dc:title>
</cp:coreProperties>
</file>