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84C2-C203-4DBA-B52B-B9D8F4255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35E3-F8B0-4DC9-8FB3-0ED8F7E9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CEFF-1E1B-4CAD-8A45-D10238973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7DA4-92E9-438E-9CEC-2D62C9C4D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2469-6F75-473C-AC0D-C9BCBB87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5892-262F-493A-B7ED-1486969A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27D8-72E1-47C0-9107-AD009D65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4AF4-CC6B-44C3-B86C-D273301A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785B-E902-45E0-8D55-4FFE259A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0148-D2F1-49BE-A9C4-2545DE21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0F89-C95B-403F-9916-86B3D3D4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4351-43F0-425F-94A9-9E4EE676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31E6-26B3-4BA6-ADF1-7C9DC04F050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0000" y="5229360"/>
            <a:ext cx="428292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5"/>
          <p:cNvSpPr/>
          <p:nvPr/>
        </p:nvSpPr>
        <p:spPr>
          <a:xfrm>
            <a:off x="2700360" y="5805360"/>
            <a:ext cx="5040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71476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besat3-1</cp:lastModifiedBy>
  <dcterms:modified xsi:type="dcterms:W3CDTF">2016-04-11T11:43:10Z</dcterms:modified>
  <cp:revision>731</cp:revision>
  <dc:subject/>
  <dc:title>Diapositiva 1</dc:title>
</cp:coreProperties>
</file>