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65A-FD05-4E8C-88FA-83492A74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9A2-85C6-41DA-886C-121299E7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53F-4D97-4078-ADF7-B9686349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EA2-0EE2-40E2-85EF-7A820917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E0D-FAE9-4ECA-A235-EF52DF9B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E00-500C-4D6B-9CCA-5B990A52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C183-9762-4E29-82B1-674301C0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7FE-4E27-48FB-9BA8-23D780FC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267-1D4D-4946-A1D3-AFA7482D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1FC-F724-492F-A9AF-8DC92B2E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1FA-F195-4775-9041-2D0252DF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8C8-CC0B-4DC7-8183-0D0A3B6B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5789-D8AD-4FA7-BDA8-584ED9F75F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446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6836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00:44Z</dcterms:modified>
  <cp:revision>386</cp:revision>
  <dc:subject/>
  <dc:title>Diapositiva 1</dc:title>
</cp:coreProperties>
</file>