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D01-96D3-4D9C-88C6-24FACC58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9E0-D900-421B-AD27-934BCD0A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19F-0D36-43A5-86B5-994E75DF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4CD-B75C-45EE-B904-08146EC9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C32-47D3-47B5-8198-6E201772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BBE-2F03-4A9E-B309-76431D03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834-7F7A-4884-8CD3-36683035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492-7A76-413C-AB26-D7941067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4F1-6B60-4415-BFB7-12A981FC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D02-5B13-4875-80EF-1C61408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27C-6183-4615-88D9-362E3C5E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F2A-1175-407D-AB2D-F5277F3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4ACA-C428-4288-84FF-7CE0CBCDC5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79280" y="177336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90000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03:01Z</dcterms:modified>
  <cp:revision>684</cp:revision>
  <dc:subject/>
  <dc:title>Diapositiva 1</dc:title>
</cp:coreProperties>
</file>