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4C08-04EB-4459-ACF8-9D2C7768A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7DCB-FF22-4E81-A684-2F21F5C8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2AF-E4BF-464C-9A7D-B78C132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F73-80F8-47A9-B5BB-5DF1A05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464-BDB2-446C-A531-D8AFA77E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0E8-5A9F-48AB-B75F-BE6B025F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31C-7DA7-4DD8-90A8-B498D42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B02-BC8F-4F20-8222-49676D0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2E1-0075-401A-9C97-1A6C335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4C0-3251-4E7A-A373-B2AC972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BB5-C7A1-4A7C-BFF5-25D9244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848-2272-4F9D-BDA3-48CD6437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3C9-72C8-402E-9DFA-339548E4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386-3F47-4E95-808A-A5E8169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AF7-DD45-4427-8279-6ED41018F8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429228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2340000" y="4941720"/>
            <a:ext cx="165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1c1c1c"/>
                </a:solidFill>
                <a:latin typeface="Arial"/>
              </a:rPr>
              <a:t>Sub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45435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03:38Z</dcterms:modified>
  <cp:revision>874</cp:revision>
  <dc:subject/>
  <dc:title>Diapositiva 1</dc:title>
</cp:coreProperties>
</file>