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725-20EA-41C5-83A4-7077A3AF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ADA-9352-4660-BD2D-647C605F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01B-8CA0-43A3-8304-B1FE19B0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0B8-26B4-4146-A5F0-4AF257E3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062-44F2-4289-BE3A-A887B8EB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D97-EDD4-43F7-8694-15BBB05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DF8-8EB4-47DB-841F-C17A26A4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D08-72B9-4315-8C4F-CBC4F25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CFE-3805-4D05-94EE-9BB931A0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086-90F3-498A-9E1F-27E3F68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8EB-AE7F-44A9-B126-517560C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FAE-208B-4DE5-99EF-77AF309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BAD0-21D7-46C0-8EEC-F68EFDF162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981000"/>
            <a:ext cx="532944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214800" y="3143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4-09T03:39:57Z</dcterms:modified>
  <cp:revision>730</cp:revision>
  <dc:subject/>
  <dc:title>Diapositiva 1</dc:title>
</cp:coreProperties>
</file>