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5FE-4D35-4F51-AA37-6120E0F1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4ED-50DA-4F54-B579-16C87FE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5E6-160A-45D7-9520-D6E297BA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889-3A82-46B7-91DB-D9CAFEFD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1F1-BB17-43C5-B232-19F7C60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BA1-9DE6-4C15-B2F3-710721F2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05F-63FD-4EDB-B2A1-9E592E8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9C3-B470-4978-B508-C141FFA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C1F-BBF2-4731-819B-8768BC14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1FB-A954-44FD-8CBD-A7970C6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0CB-F956-4D7C-B6CD-73FF3434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4A1-280B-4322-9087-CBCF76A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4492-439A-4CDE-BBB8-E54F4C1B32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712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3-01T17:27:27Z</dcterms:modified>
  <cp:revision>106</cp:revision>
  <dc:subject/>
  <dc:title>Diapositiva 1</dc:title>
</cp:coreProperties>
</file>