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87E-F1C0-48DB-B640-B525FB6C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93F-B092-485D-BB95-47A421FC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EE7-80E8-45C3-ADC1-70C58795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998-9735-4494-9D03-2DEB6A40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08F-7CC2-4B67-A85B-8DBE873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D2F-53EA-4074-A7ED-C6A087A9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725-2B58-4602-94A9-9F73F23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C51-D504-4810-853A-038E8782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B7A-DC29-4BE7-A6A6-93EAD94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054-449A-4D66-99BC-B3373CD0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BFC-2E44-4A50-897C-CEF4F8A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D42-66E4-4614-AD89-348B43FB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25F8-C1E9-4845-97B3-CF6756B0BF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2880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3-01T17:18:33Z</dcterms:modified>
  <cp:revision>879</cp:revision>
  <dc:subject/>
  <dc:title>Diapositiva 1</dc:title>
</cp:coreProperties>
</file>