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293E-055C-4003-B0E4-29337844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31E-6DDE-4383-A7C9-8901C03E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D47-765A-4EDE-9018-258197EE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E37-4382-4E94-B617-E4CBA782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5B1-9650-4D71-9B77-CFC4F97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B9D-B11D-42DE-A2DE-EA547D98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1DE1-3F06-4428-B723-C9A717C6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09A-7F0E-42B8-AE1D-BA1D5D1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2E5-C84C-4807-8330-6F40DD03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502-F322-452F-86B0-7E7B0D0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FA9E-9103-40C5-92AF-13C98B92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123-5D15-4AEB-8F6A-BA8D857A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0B5A-5CC8-44BB-A68C-94B9CBA01C6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971640" y="5924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3-02T14:25:21Z</dcterms:modified>
  <cp:revision>97</cp:revision>
  <dc:subject/>
  <dc:title>TITLE</dc:title>
</cp:coreProperties>
</file>